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C15-039A-4A54-A341-9EEAC531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E41-C891-4676-899C-BBE8EDF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E80-EC4A-46B4-98D0-1BB41CA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F38-E807-4CB7-933B-4E9949C2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F7B8-0946-4879-B5B3-FCC5C4A1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25E4-27C5-4FA3-8A71-8356F264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B22-D7A6-406D-A81A-8C1800E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41A-46D7-442B-962E-7E1DBFD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A07-BC0F-4A09-908D-FB41E6A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A7D-FEEE-489A-A593-6B9A30B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337-AA7D-4398-9046-B471186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B88-1E8C-4860-A193-D963B0CC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633B-BD0E-496E-B8CF-6F46E76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E71C-D03B-4B1C-A867-B319223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498-31FC-462D-90CB-8BCD409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3347-C0A5-4448-A84D-FD56FC77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1680-1937-4440-9D89-9EFDD85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C9F6-0945-4EFA-97FB-0349EFF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8AD0-3118-42DC-ADDA-B79FD0B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C80A-A141-4397-9158-4DFB1EE6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52C1-6D47-4439-A39D-55F6C795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96CD-85F9-4C61-85F2-701E4D7A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F7E-CAEF-4BC0-8EA9-0F3BACE3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6992-AACE-49F8-B3EB-856CC72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F552-E610-4D40-B6FF-D6CB8F8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B8F7-4792-4203-8F92-0290E97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B8F1-06C3-4241-96CC-DB23314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FB75-0EA7-4A41-AB42-BB9B885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3D15-C7D6-437A-801A-C0B8972F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5AF4-B2BE-45D7-85C9-10332B79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FDA6-EAF2-4D56-A727-E2C99C01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C340-188F-4BBD-B2B8-A1988AC3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48D5-7925-4EFD-B84D-B4F75D0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79E-C0B7-4DFF-B173-763BE58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BB9A-29C7-4316-B51C-93B95BC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C0E4-FC38-4938-A6AB-3A59156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144C-A273-460E-864E-2F6CCDC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B33B-8B28-4DB1-9DC1-D84C1FB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549B-867A-41BE-8DD1-0BDF276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AB35-F879-421C-BDDF-661604A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32BE-ABF0-4733-BF27-02D852B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DF99-3DE5-4A06-AC1C-45F7A59D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FB70-E409-4AD9-8608-4CFB6596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88083-A924-43D7-8727-9246D65D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8FE-084B-4D75-B4B2-C53D61E8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92A4-6142-4030-87B7-591460A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4ED2-782C-4DDD-B1DC-2C98C7A1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2A0E-00EA-42D7-A367-48D3EED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4BF4-8FDC-42EF-9A6A-C85F581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D07A-661D-4AD4-8C11-988A415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28CE-6797-43D7-ADC0-F2A895E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3FCA-2659-4DE1-B90A-6F4A9D1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832A-50ED-4977-BBA7-429150F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E6A9-313C-4892-AD5D-D30BC49B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EEBB2-A020-467F-AED2-A7DD64DF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E57-7159-4EA5-8F1E-AADDD54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B916-7CAE-4474-B303-9FE0F2C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C66-0891-4F8A-BBE1-3DD625D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680-2510-4FE0-91C2-C7CE2C7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FC9-4B9A-4805-A8B3-0F75DFD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DF6-CA8E-4006-A31C-39995E1048BC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017F-4481-4D83-9C7F-52879434722E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A18A-B4F5-4EDD-8E5E-4B2A34928310}" type="slidenum"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948D-1D38-481D-97DF-70C26FCA4E39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51FE-87A7-45F8-A889-3277EDF100A6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66600" y="171360"/>
            <a:ext cx="9210600" cy="1846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888000" cy="4104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464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1033560" y="809640"/>
            <a:ext cx="7076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395280" y="714240"/>
            <a:ext cx="835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056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971640" y="1523880"/>
            <a:ext cx="7488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395280" y="1143000"/>
            <a:ext cx="8280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52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Theory of Cultural La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111240" y="2462040"/>
            <a:ext cx="8781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Luddi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Recognizing the process (McLuhan)</a:t>
            </a:r>
            <a:br>
              <a:rPr sz="2400"/>
            </a:b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Human desi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08000" y="1604880"/>
            <a:ext cx="5111640" cy="4919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103640" cy="4321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970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52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12760" y="-139680"/>
            <a:ext cx="8663040" cy="1846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Negative Effects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4753080" cy="28573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3" descr=""/>
          <p:cNvPicPr/>
          <p:nvPr/>
        </p:nvPicPr>
        <p:blipFill>
          <a:blip r:embed="rId3"/>
          <a:stretch/>
        </p:blipFill>
        <p:spPr>
          <a:xfrm>
            <a:off x="5937120" y="3432240"/>
            <a:ext cx="2968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12760" y="-139680"/>
            <a:ext cx="8663040" cy="1846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Negative Effects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285840" y="2276640"/>
            <a:ext cx="2857320" cy="374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3143160" y="3446640"/>
            <a:ext cx="4032360" cy="3095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4"/>
          <a:stretch/>
        </p:blipFill>
        <p:spPr>
          <a:xfrm>
            <a:off x="5159520" y="896760"/>
            <a:ext cx="3886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Societal change is occurring at such a staggering rate (largely driven by new tech) that the fundamental values of society are being blurred. 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321440" cy="3745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4923000" y="1916280"/>
            <a:ext cx="40384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250920" y="2759040"/>
            <a:ext cx="2581200" cy="3889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3203640" y="3395520"/>
            <a:ext cx="2232000" cy="2970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4"/>
          <a:stretch/>
        </p:blipFill>
        <p:spPr>
          <a:xfrm>
            <a:off x="5759280" y="3357720"/>
            <a:ext cx="3152880" cy="33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5"/>
          <a:stretch/>
        </p:blipFill>
        <p:spPr>
          <a:xfrm>
            <a:off x="7201080" y="765000"/>
            <a:ext cx="1711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We tend to rely so much on machines that when they don’t do what we want them to do, we experience tremendous anxiety.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dfe6d0"/>
                </a:solidFill>
                <a:latin typeface="Tw Cen MT"/>
              </a:rPr>
              <a:t>Technosis</a:t>
            </a: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Addictive use of the internet directly leads to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56108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1332000" y="2192400"/>
            <a:ext cx="71276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12:44Z</dcterms:created>
  <dc:creator>Jason</dc:creator>
  <dc:description/>
  <dc:language>en-US</dc:language>
  <cp:lastModifiedBy>Jason</cp:lastModifiedBy>
  <dcterms:modified xsi:type="dcterms:W3CDTF">2011-04-01T16:30:44Z</dcterms:modified>
  <cp:revision>8</cp:revision>
  <dc:subject/>
  <dc:title>4.2 Coping With Technological Change</dc:title>
</cp:coreProperties>
</file>